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3BF3-5015-4312-9596-DE8FA1B4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F96B-22F7-41A7-9EE4-F84EEA8A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440-472B-4893-80A7-7DD18B36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3FB-C965-4979-AEC0-CF2F2711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2655-6728-4480-B56A-BB7CA6F3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847-1413-4770-AA26-CAEDA6B4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BD6-1A7B-4EC4-BFF0-0679270C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E74E-C1BE-4A6B-ABE2-9E02D2C6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EFD8-6F77-497B-AD4A-56F146B2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F02-B50F-4134-B3D9-A9F7A066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661-C6AD-471A-BBEA-686CAB5B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DCB-0A51-4BD1-84A9-BB52794E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BDC5-4BBF-4473-8B28-A2499C68E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t.wikipedia.org/wiki/Contrazione_muscolare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cc00"/>
                </a:solidFill>
                <a:latin typeface="Haettenschweiler"/>
              </a:rPr>
              <a:t>Il Corpo Uman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Apparato schele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Apparato musco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16000" y="5661000"/>
            <a:ext cx="676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ura della classe V sez. D SANTOCANALE – SCI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gnante ROT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46240" y="1359000"/>
            <a:ext cx="3251520" cy="3682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68360" y="5445000"/>
            <a:ext cx="46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Haettenschweiler"/>
              </a:rPr>
              <a:t>LA STRIATURA DEI MUSCOLI LUNG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57520" y="1928880"/>
            <a:ext cx="2028960" cy="2543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11280" y="4869000"/>
            <a:ext cx="48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479736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Haettenschweiler"/>
              </a:rPr>
              <a:t>MUSCOLI </a:t>
            </a:r>
            <a:r>
              <a:rPr b="0" lang="en-US" sz="4800" spc="-1" strike="noStrike">
                <a:solidFill>
                  <a:srgbClr val="99cc00"/>
                </a:solidFill>
                <a:latin typeface="Haettenschweiler"/>
              </a:rPr>
              <a:t>FACCIAL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 tipo muscoloso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85960" y="1600200"/>
            <a:ext cx="377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 comanda i muscoli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ntrazione muscol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i un muscolo scheletrico ha inizio quando il segnale elettrico, proveniente dai motoneuroni del sistema nervoso centrale, arriva ai bottoni sinapt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la </a:t>
            </a:r>
            <a:r>
              <a:rPr b="0" lang="it-IT" sz="3200" spc="-1" strike="noStrike">
                <a:solidFill>
                  <a:srgbClr val="009999"/>
                </a:solidFill>
                <a:latin typeface="Arial"/>
              </a:rPr>
              <a:t>fase di rilassamen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il procedimento avviene in modo contrario a quello della con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IL NOSTRO SCHELE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composto da circa 206 o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ossa contengon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dollo osseo ro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ipi di ossa (per forma): ossa lunghe, ossa piatte, ossa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ipi di ossa (per movimento): ossa mobili, semimobili e fi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57480" y="274680"/>
            <a:ext cx="30290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08040" y="576360"/>
            <a:ext cx="612612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05200" y="1504800"/>
            <a:ext cx="33336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62320" y="1852560"/>
            <a:ext cx="441936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2579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Haettenschweiler"/>
              </a:rPr>
              <a:t>APPARATO MUSCOL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9912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el nostro corpo ci sono cir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0 musco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19240" y="657360"/>
            <a:ext cx="510552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0" y="1704960"/>
            <a:ext cx="4572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0:59:03Z</dcterms:created>
  <dc:creator>alunno</dc:creator>
  <dc:description/>
  <dc:language>en-US</dc:language>
  <cp:lastModifiedBy>alunno</cp:lastModifiedBy>
  <dcterms:modified xsi:type="dcterms:W3CDTF">2011-10-17T13:02:28Z</dcterms:modified>
  <cp:revision>4</cp:revision>
  <dc:subject/>
  <dc:title>Il Corpo Umano</dc:title>
</cp:coreProperties>
</file>